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ntro-short.wav" ContentType="audio/x-wav"/>
  <Override PartName="/ppt/media/CHIMES.WAV" ContentType="audio/x-wav"/>
  <Override PartName="/ppt/media/dailydouble.wav" ContentType="audio/x-wav"/>
  <Override PartName="/ppt/media/endround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  <p:custShowLst>
    <p:custShow name="c1r1" id="0">
      <p:sldLst>
        <p:sld r:id="rId7"/>
        <p:sld r:id="rId12"/>
      </p:sldLst>
    </p:custShow>
    <p:custShow name="c1r2" id="1">
      <p:sldLst>
        <p:sld r:id="rId8"/>
        <p:sld r:id="rId13"/>
      </p:sldLst>
    </p:custShow>
    <p:custShow name="c1r3" id="2">
      <p:sldLst>
        <p:sld r:id="rId9"/>
        <p:sld r:id="rId14"/>
      </p:sldLst>
    </p:custShow>
    <p:custShow name="c1r4" id="3">
      <p:sldLst>
        <p:sld r:id="rId10"/>
        <p:sld r:id="rId15"/>
      </p:sldLst>
    </p:custShow>
    <p:custShow name="c1r5" id="4">
      <p:sldLst>
        <p:sld r:id="rId11"/>
        <p:sld r:id="rId16"/>
      </p:sldLst>
    </p:custShow>
    <p:custShow name="c2r1" id="5">
      <p:sldLst>
        <p:sld r:id="rId17"/>
        <p:sld r:id="rId22"/>
      </p:sldLst>
    </p:custShow>
    <p:custShow name="c2r2" id="6">
      <p:sldLst>
        <p:sld r:id="rId18"/>
        <p:sld r:id="rId23"/>
      </p:sldLst>
    </p:custShow>
    <p:custShow name="c2r3" id="7">
      <p:sldLst>
        <p:sld r:id="rId19"/>
        <p:sld r:id="rId24"/>
      </p:sldLst>
    </p:custShow>
    <p:custShow name="c2r4" id="8">
      <p:sldLst>
        <p:sld r:id="rId20"/>
        <p:sld r:id="rId25"/>
      </p:sldLst>
    </p:custShow>
    <p:custShow name="c2r5" id="9">
      <p:sldLst>
        <p:sld r:id="rId21"/>
        <p:sld r:id="rId26"/>
      </p:sldLst>
    </p:custShow>
    <p:custShow name="c3r1" id="10">
      <p:sldLst>
        <p:sld r:id="rId27"/>
        <p:sld r:id="rId32"/>
      </p:sldLst>
    </p:custShow>
    <p:custShow name="c3r2" id="11">
      <p:sldLst>
        <p:sld r:id="rId28"/>
        <p:sld r:id="rId33"/>
      </p:sldLst>
    </p:custShow>
    <p:custShow name="c3r3" id="12">
      <p:sldLst>
        <p:sld r:id="rId29"/>
        <p:sld r:id="rId34"/>
      </p:sldLst>
    </p:custShow>
    <p:custShow name="c3r4" id="13">
      <p:sldLst>
        <p:sld r:id="rId30"/>
        <p:sld r:id="rId35"/>
      </p:sldLst>
    </p:custShow>
    <p:custShow name="c3r5" id="14">
      <p:sldLst>
        <p:sld r:id="rId31"/>
        <p:sld r:id="rId36"/>
      </p:sldLst>
    </p:custShow>
    <p:custShow name="c4r1" id="15">
      <p:sldLst>
        <p:sld r:id="rId37"/>
        <p:sld r:id="rId42"/>
      </p:sldLst>
    </p:custShow>
    <p:custShow name="c4r2" id="16">
      <p:sldLst>
        <p:sld r:id="rId38"/>
        <p:sld r:id="rId43"/>
      </p:sldLst>
    </p:custShow>
    <p:custShow name="c4r3" id="17">
      <p:sldLst>
        <p:sld r:id="rId39"/>
        <p:sld r:id="rId44"/>
      </p:sldLst>
    </p:custShow>
    <p:custShow name="c4r4" id="18">
      <p:sldLst>
        <p:sld r:id="rId40"/>
        <p:sld r:id="rId45"/>
      </p:sldLst>
    </p:custShow>
    <p:custShow name="c4r5" id="19">
      <p:sldLst>
        <p:sld r:id="rId41"/>
        <p:sld r:id="rId4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00"/>
                </a:solidFill>
                <a:latin typeface="Flareserif821 B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date/time&gt;</a:t>
            </a:r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Enchanted"/>
              </a:rPr>
              <a:t>Click to move the slide</a:t>
            </a: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00"/>
                </a:solidFill>
                <a:latin typeface="Flareserif821 B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F3D91-19F4-4A01-AEE2-B59B3CB27C97}" type="slidenum"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E1C70-5B6E-47B7-B95E-45D7CCC77681}" type="slidenum"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DF913-893C-412F-9397-25A296D429E6}" type="slidenum"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60D64-19C7-43F9-81B1-4FFF3065659F}" type="slidenum"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23D2B-D9B2-4DF7-B1A8-61DD10184F06}" type="slidenum"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C2095-99B5-43E8-9F86-CF27149BB281}" type="slidenum"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0632-52FD-4706-A3C0-513C6641F10B}" type="slidenum"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78D1A-85C2-4C9A-BDC9-CF892838D0AD}" type="slidenum"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65D3E-1954-481F-A6E9-2950566CEB08}" type="slidenum"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1B166-A63E-4261-B334-CA08101562E7}" type="slidenum"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C582E-5103-4BB1-836D-B3D252F981C5}" type="slidenum"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F8E91-8CE2-43F5-9D47-474F0085B071}" type="slidenum"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E6186-FFBE-454A-841A-4C93BCF46561}" type="slidenum"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9185D-F763-4E0C-B9CC-F3DB0AB7B9D1}" type="slidenum"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A1BD4-A2F8-4D08-9C2A-C625A642D099}" type="slidenum"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1BABD-68AD-47A2-B42A-B07DA0739D81}" type="slidenum"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B0598-9126-4699-8250-BAD28553F662}" type="slidenum"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40E54-0B6B-4BC6-AFB5-3AEC37B9EE12}" type="slidenum"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C9690-04E5-4C55-B28D-2FB82F26E965}" type="slidenum"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66EC4-6139-4FB9-AB42-3EF422D9D89B}" type="slidenum"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FC770-940F-42AD-9EB1-55AAF9BA182D}" type="slidenum"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80293-BC12-402E-9015-9B1122EE9442}" type="slidenum"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AD3D8-EFA9-4C6D-BE92-C185F4578D14}" type="slidenum"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ACCC0-AA2F-418D-A3EC-F901F7290923}" type="slidenum"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B3D9A-FC60-4F53-B2D7-AA76C2C74245}" type="slidenum"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0902A-CB18-4FAB-9B81-69C90AB6083B}" type="slidenum"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D0A65-7A95-4A21-B9B5-935819BAC462}" type="slidenum"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18567-84E9-44E8-8E15-36DE19FEAA27}" type="slidenum"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892ED-F76C-40B6-8DD8-20D69715380B}" type="slidenum"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A2378-B71C-4BF2-AA30-3C4934F263A6}" type="slidenum"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6DDBF-6252-4C37-8EDA-B640679265AF}" type="slidenum"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630D3-FA35-4CF6-8D20-0B1B01A7416D}" type="slidenum"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FEC9B-8BEC-4267-AB7D-F08ADD63C613}" type="slidenum"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65392-62C3-4D33-8E54-4002AB7D0127}" type="slidenum"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E1889-8B65-4AB7-B211-211620955FF9}" type="slidenum"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6B629-8918-4FCC-A50F-F05F992F500A}" type="slidenum"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D4365-EA7C-4550-9159-84A099799AF0}" type="slidenum"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0A0AC-2249-4F0C-A87F-DEE402EA4A2F}" type="slidenum"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9B1D2-01C2-44B0-8D46-86C141B07868}" type="slidenum"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2D8F4-3CE8-48E9-89E4-5E619BA9DC92}" type="slidenum"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89268-7868-4FD3-87BE-C3FA292FF273}" type="slidenum"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D2B3-D941-4534-A374-FFE0C9776500}" type="slidenum"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12A4C-CA54-499D-8AC5-33C166DAC070}" type="slidenum"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7CA35-748B-4568-B582-E9335B8A882B}" type="slidenum"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D4C11-60EA-4C84-BD48-95996712DA56}" type="slidenum"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9A5B7-C08B-44BB-9BD7-4D3AEA392AD3}" type="slidenum"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DE695-1380-4781-B46C-279385C2AA4F}" type="slidenum"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1C7E4-AA44-49A7-95BA-DD7F3308D108}" type="slidenum"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70F4A-DE4B-427C-AF14-C90BCEC4DEC1}" type="slidenum"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9321D-B5AC-46EE-96C1-805428307623}" type="slidenum"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EF33B-CF65-4216-BDEB-B648B6A375AD}" type="slidenum">
              <a:rPr b="0" lang="en-US" sz="1200" spc="-1" strike="noStrike">
                <a:solidFill>
                  <a:srgbClr val="ffff00"/>
                </a:solidFill>
                <a:latin typeface="Flareserif821 BT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9BCF-1A5C-4A32-8F2C-9355BC862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638A-DE47-468E-9DB3-04FE8D3CC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B525-5221-4C67-9CF8-F5ABD2DA2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3B7D-CA61-4BB6-B442-EE038A043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EBB7-063F-49FB-9C6A-D7D70AE30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FF58-477F-4336-836C-139C200BE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71C9-BEA1-49D6-BB1E-5C905E709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7C9A-9604-46CA-8247-31141B7AF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0B2F-F42E-4C36-AD4C-B0E3ACF7D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1EAD-6D8F-47FA-9D3A-23FD7C5B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66BC-CFC7-429C-B3BD-A6D00379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076F-9EDE-4D57-A8E1-F32BBCE6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Enchanted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ctr">
            <a:normAutofit fontScale="70000"/>
          </a:bodyPr>
          <a:p>
            <a:pPr marL="240120"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nchanted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  <a:p>
            <a:pPr lvl="1" marL="240120" indent="-240120" algn="ctr">
              <a:spcBef>
                <a:spcPts val="1001"/>
              </a:spcBef>
              <a:buClr>
                <a:srgbClr val="ffffff"/>
              </a:buClr>
              <a:buFont typeface="Enchante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nchanted"/>
              </a:rPr>
              <a:t>Second Outline Level</a:t>
            </a: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  <a:p>
            <a:pPr lvl="2" marL="240120" indent="-240120" algn="ctr">
              <a:spcBef>
                <a:spcPts val="1001"/>
              </a:spcBef>
              <a:buClr>
                <a:srgbClr val="ffffff"/>
              </a:buClr>
              <a:buFont typeface="Enchant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nchanted"/>
              </a:rPr>
              <a:t>Third Outline Level</a:t>
            </a: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  <a:p>
            <a:pPr lvl="3" marL="240120" indent="-240120" algn="ctr">
              <a:spcBef>
                <a:spcPts val="1001"/>
              </a:spcBef>
              <a:buClr>
                <a:srgbClr val="ffffff"/>
              </a:buClr>
              <a:buFont typeface="Enchante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nchanted"/>
              </a:rPr>
              <a:t>Fourth Outline Level</a:t>
            </a: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  <a:p>
            <a:pPr lvl="4" marL="240120" indent="-240120" algn="ctr">
              <a:spcBef>
                <a:spcPts val="1001"/>
              </a:spcBef>
              <a:buClr>
                <a:srgbClr val="ffffff"/>
              </a:buClr>
              <a:buFont typeface="Enchante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nchanted"/>
              </a:rPr>
              <a:t>Fifth Outline Level</a:t>
            </a: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  <a:p>
            <a:pPr lvl="5" marL="240120" indent="-240120" algn="ctr">
              <a:spcBef>
                <a:spcPts val="1001"/>
              </a:spcBef>
              <a:buClr>
                <a:srgbClr val="000000"/>
              </a:buClr>
              <a:buFont typeface="Enchante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nchanted"/>
              </a:rPr>
              <a:t>Sixth Outline Level</a:t>
            </a: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  <a:p>
            <a:pPr lvl="6" marL="240120" indent="-240120" algn="ctr">
              <a:spcBef>
                <a:spcPts val="1001"/>
              </a:spcBef>
              <a:buClr>
                <a:srgbClr val="000000"/>
              </a:buClr>
              <a:buFont typeface="Enchante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nchanted"/>
              </a:rPr>
              <a:t>Seventh Outline Level</a:t>
            </a: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C066A-4A53-40AF-9E94-6E60D9A7B9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intro-short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dailydoubl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hyperlink" Target="file:///tmp/home/.config/libreoffice/4/user/gallery/endround.wa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intro-short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endrou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8" descr="jeopardyheader"/>
          <p:cNvPicPr/>
          <p:nvPr/>
        </p:nvPicPr>
        <p:blipFill>
          <a:blip r:embed="rId1"/>
          <a:stretch/>
        </p:blipFill>
        <p:spPr>
          <a:xfrm>
            <a:off x="2819520" y="1828800"/>
            <a:ext cx="3490920" cy="1066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9" name="this936.wav" descr=""/>
          <p:cNvPicPr/>
          <p:nvPr/>
        </p:nvPicPr>
        <p:blipFill>
          <a:blip r:embed="rId2"/>
          <a:stretch/>
        </p:blipFill>
        <p:spPr>
          <a:xfrm>
            <a:off x="8686800" y="7162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449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intro-sho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Enchanted"/>
              </a:rPr>
              <a:t>Scavengers $400-Answer</a:t>
            </a: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nchanted"/>
              </a:rPr>
              <a:t>A carnivore is an organism that only eats meat.</a:t>
            </a: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Enchanted"/>
              </a:rPr>
              <a:t>Scavengers $600-Answer</a:t>
            </a: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nchanted"/>
              </a:rPr>
              <a:t>A predator is an organism that eats the other organism. </a:t>
            </a: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Enchanted"/>
              </a:rPr>
              <a:t>Scavengers $800-Answer</a:t>
            </a: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nchanted"/>
              </a:rPr>
              <a:t>A herbivore is an organism that only eats plants.</a:t>
            </a: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Enchanted"/>
              </a:rPr>
              <a:t>Scavengers $1000-Answer</a:t>
            </a: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nchanted"/>
              </a:rPr>
              <a:t>A prey is an organism that gets eaten by  another organism.</a:t>
            </a: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Enchanted"/>
              </a:rPr>
              <a:t>Ecosystem 1 $200</a:t>
            </a: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nchanted"/>
              </a:rPr>
              <a:t>What is an ecosystem?</a:t>
            </a: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6"/>
          <p:cNvSpPr txBox="1"/>
          <p:nvPr/>
        </p:nvSpPr>
        <p:spPr>
          <a:xfrm rot="20780400">
            <a:off x="1271160" y="3854520"/>
            <a:ext cx="6413400" cy="18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5139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Daily Double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Enchanted"/>
              </a:rPr>
              <a:t>Ecosystem 1 $400</a:t>
            </a: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685800" y="1965240"/>
            <a:ext cx="7772400" cy="13129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Flareserif821 BT"/>
              </a:rPr>
              <a:t>Name the nonliving parts in an ecosystem.</a:t>
            </a:r>
            <a:endParaRPr b="0" lang="en-US" sz="40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  <p:transition>
    <p:checker dir="horz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ailydoub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Enchanted"/>
              </a:rPr>
              <a:t>Ecosystem 1 $600</a:t>
            </a: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nchanted"/>
              </a:rPr>
              <a:t>Name the living parts in an ecosystem.</a:t>
            </a: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Enchanted"/>
              </a:rPr>
              <a:t>Ecosystem 1 $800</a:t>
            </a: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nchanted"/>
              </a:rPr>
              <a:t>Where does an ecosystem get energy from?</a:t>
            </a: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Enchanted"/>
              </a:rPr>
              <a:t>Ecosystem 1 $1000</a:t>
            </a: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nchanted"/>
              </a:rPr>
              <a:t>What is a population?</a:t>
            </a: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Enchanted"/>
              </a:rPr>
              <a:t>Ecosystem 1 $200-Answer</a:t>
            </a: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nchanted"/>
              </a:rPr>
              <a:t>An ecosystem is all the living  and nonliving things in an environment and the many ways they interact. </a:t>
            </a: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9"/>
          <p:cNvSpPr/>
          <p:nvPr/>
        </p:nvSpPr>
        <p:spPr>
          <a:xfrm>
            <a:off x="611280" y="159876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Enchanted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609480" y="259092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Enchanted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609480" y="358128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Enchanted"/>
              </a:rPr>
              <a:t>$6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609480" y="464832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Enchanted"/>
              </a:rPr>
              <a:t>$8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609480" y="563868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Enchanted"/>
              </a:rPr>
              <a:t>$10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2744640" y="159876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Enchanted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2743200" y="259092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Enchanted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2743200" y="358128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Enchanted"/>
              </a:rPr>
              <a:t>$6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2743200" y="464832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Enchanted"/>
              </a:rPr>
              <a:t>$8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2743200" y="563868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Enchanted"/>
              </a:rPr>
              <a:t>$10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60" name="Text Box 19"/>
          <p:cNvSpPr/>
          <p:nvPr/>
        </p:nvSpPr>
        <p:spPr>
          <a:xfrm>
            <a:off x="4878360" y="159876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Enchanted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4876920" y="259092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Enchanted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62" name="Text Box 21"/>
          <p:cNvSpPr/>
          <p:nvPr/>
        </p:nvSpPr>
        <p:spPr>
          <a:xfrm>
            <a:off x="4876920" y="358128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Enchanted"/>
              </a:rPr>
              <a:t>$6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63" name="Text Box 22"/>
          <p:cNvSpPr/>
          <p:nvPr/>
        </p:nvSpPr>
        <p:spPr>
          <a:xfrm>
            <a:off x="4876920" y="464832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Enchanted"/>
              </a:rPr>
              <a:t>$8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64" name="Text Box 23"/>
          <p:cNvSpPr/>
          <p:nvPr/>
        </p:nvSpPr>
        <p:spPr>
          <a:xfrm>
            <a:off x="4876920" y="563868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Enchanted"/>
              </a:rPr>
              <a:t>$10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65" name="Text Box 24"/>
          <p:cNvSpPr/>
          <p:nvPr/>
        </p:nvSpPr>
        <p:spPr>
          <a:xfrm>
            <a:off x="7012080" y="159876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Enchanted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66" name="Text Box 25"/>
          <p:cNvSpPr/>
          <p:nvPr/>
        </p:nvSpPr>
        <p:spPr>
          <a:xfrm>
            <a:off x="7010280" y="259092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Enchanted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67" name="Text Box 26"/>
          <p:cNvSpPr/>
          <p:nvPr/>
        </p:nvSpPr>
        <p:spPr>
          <a:xfrm>
            <a:off x="7010280" y="358128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Enchanted"/>
              </a:rPr>
              <a:t>$6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68" name="Text Box 27"/>
          <p:cNvSpPr/>
          <p:nvPr/>
        </p:nvSpPr>
        <p:spPr>
          <a:xfrm>
            <a:off x="7010280" y="464832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Enchanted"/>
              </a:rPr>
              <a:t>$8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7010280" y="563868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Enchanted"/>
              </a:rPr>
              <a:t>$10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pic>
        <p:nvPicPr>
          <p:cNvPr id="70" name="boar952.wav" descr=""/>
          <p:cNvPicPr/>
          <p:nvPr/>
        </p:nvPicPr>
        <p:blipFill>
          <a:blip r:embed="rId1"/>
          <a:stretch/>
        </p:blipFill>
        <p:spPr>
          <a:xfrm>
            <a:off x="-457200" y="-3808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4"/>
          <p:cNvSpPr/>
          <p:nvPr/>
        </p:nvSpPr>
        <p:spPr>
          <a:xfrm>
            <a:off x="609480" y="304920"/>
            <a:ext cx="1752840" cy="3988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Enchanted"/>
              </a:rPr>
              <a:t>Scavengers</a:t>
            </a:r>
            <a:endParaRPr b="0" lang="en-US" sz="20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72" name="Text Box 35"/>
          <p:cNvSpPr/>
          <p:nvPr/>
        </p:nvSpPr>
        <p:spPr>
          <a:xfrm>
            <a:off x="2743200" y="304920"/>
            <a:ext cx="1828800" cy="3988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Flareserif821 BT"/>
              </a:rPr>
              <a:t>Ecosystem 1</a:t>
            </a:r>
            <a:endParaRPr b="0" lang="en-US" sz="20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73" name="Text Box 36"/>
          <p:cNvSpPr/>
          <p:nvPr/>
        </p:nvSpPr>
        <p:spPr>
          <a:xfrm>
            <a:off x="4875120" y="295200"/>
            <a:ext cx="1752840" cy="3988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Flareserif821 BT"/>
              </a:rPr>
              <a:t>Ecosystem 2</a:t>
            </a:r>
            <a:endParaRPr b="0" lang="en-US" sz="20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74" name="Text Box 37"/>
          <p:cNvSpPr/>
          <p:nvPr/>
        </p:nvSpPr>
        <p:spPr>
          <a:xfrm>
            <a:off x="6934320" y="304920"/>
            <a:ext cx="1752480" cy="459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Enchanted"/>
              </a:rPr>
              <a:t>Food chains and food webs</a:t>
            </a:r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  <p:transition>
    <p:checker dir="horz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4168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Enchanted"/>
              </a:rPr>
              <a:t>Ecosystem 1 $400-Answer</a:t>
            </a: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nchanted"/>
              </a:rPr>
              <a:t>Water, sun, soil, and rocks.</a:t>
            </a: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Enchanted"/>
              </a:rPr>
              <a:t>Ecosystem 1 $600-Answer</a:t>
            </a: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nchanted"/>
              </a:rPr>
              <a:t>The living parts of an ecosystem are plants, animals, and humans.</a:t>
            </a: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</p:spTree>
  </p:cSld>
  <p:transition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Enchanted"/>
              </a:rPr>
              <a:t>Ecosystem 1 $800-Answer</a:t>
            </a: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nchanted"/>
              </a:rPr>
              <a:t>The Sun</a:t>
            </a: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</p:spTree>
  </p:cSld>
  <p:transition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Enchanted"/>
              </a:rPr>
              <a:t>Ecosystem 1 $1000-Answer</a:t>
            </a: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nchanted"/>
              </a:rPr>
              <a:t>A population is all the members of one species living in an area of the ecosystem.</a:t>
            </a: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</p:spTree>
  </p:cSld>
  <p:transition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Enchanted"/>
              </a:rPr>
              <a:t>Ecosystem 2 $200</a:t>
            </a: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nchanted"/>
              </a:rPr>
              <a:t>What are producers in an ecosystem?</a:t>
            </a: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Enchanted"/>
              </a:rPr>
              <a:t>Ecosystem 2 $400</a:t>
            </a: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nchanted"/>
              </a:rPr>
              <a:t>What are consumers in an ecosystem?</a:t>
            </a: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</p:spTree>
  </p:cSld>
  <p:transition>
    <p:checke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Enchanted"/>
              </a:rPr>
              <a:t>Ecosystem 2 $600</a:t>
            </a: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nchanted"/>
              </a:rPr>
              <a:t>What ecosystem has limited water?</a:t>
            </a: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Enchanted"/>
              </a:rPr>
              <a:t>Ecosystem 2 $800</a:t>
            </a: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nchanted"/>
              </a:rPr>
              <a:t>What is a community?</a:t>
            </a: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</p:spTree>
  </p:cSld>
  <p:transition>
    <p:checke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Enchanted"/>
              </a:rPr>
              <a:t>Ecosystem 2 $1000</a:t>
            </a: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nchanted"/>
              </a:rPr>
              <a:t>Can you name a few ecosystems?</a:t>
            </a: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</p:spTree>
  </p:cSld>
  <p:transition>
    <p:checke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Enchanted"/>
              </a:rPr>
              <a:t>Ecosystem 2 $200-Answer</a:t>
            </a: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nchanted"/>
              </a:rPr>
              <a:t>Producers are plants like trees or cactus.</a:t>
            </a: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609480" y="304920"/>
            <a:ext cx="1752840" cy="3988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Enchanted"/>
              </a:rPr>
              <a:t>Scavengers</a:t>
            </a:r>
            <a:endParaRPr b="0" lang="en-US" sz="20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743200" y="304920"/>
            <a:ext cx="1828800" cy="3988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Flareserif821 BT"/>
              </a:rPr>
              <a:t>Ecosystem 1</a:t>
            </a:r>
            <a:endParaRPr b="0" lang="en-US" sz="20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4876920" y="304920"/>
            <a:ext cx="1752480" cy="7038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Enchanted"/>
              </a:rPr>
              <a:t>Ecosystem 2</a:t>
            </a:r>
            <a:endParaRPr b="0" lang="en-US" sz="20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6934320" y="304920"/>
            <a:ext cx="1752480" cy="459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Enchanted"/>
              </a:rPr>
              <a:t>Food chains and food webs</a:t>
            </a:r>
            <a:endParaRPr b="0" lang="en-US" sz="12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609480" y="1600200"/>
            <a:ext cx="1751040" cy="5101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Enchanted"/>
                <a:hlinkClick r:id="rId1" action="ppaction://hlinksldjump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609480" y="259092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Enchanted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609480" y="358128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Enchanted"/>
              </a:rPr>
              <a:t>$6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609480" y="464832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Enchanted"/>
              </a:rPr>
              <a:t>$8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609480" y="563868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Enchanted"/>
              </a:rPr>
              <a:t>$10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2744640" y="159876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Enchanted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2743200" y="259092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Enchanted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2743200" y="358128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Enchanted"/>
              </a:rPr>
              <a:t>$6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2743200" y="464832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Enchanted"/>
              </a:rPr>
              <a:t>$8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88" name="Text Box 15"/>
          <p:cNvSpPr/>
          <p:nvPr/>
        </p:nvSpPr>
        <p:spPr>
          <a:xfrm>
            <a:off x="2743200" y="563868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Enchanted"/>
              </a:rPr>
              <a:t>$10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89" name="Text Box 16"/>
          <p:cNvSpPr/>
          <p:nvPr/>
        </p:nvSpPr>
        <p:spPr>
          <a:xfrm>
            <a:off x="4865760" y="156528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Enchanted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90" name="Text Box 17"/>
          <p:cNvSpPr/>
          <p:nvPr/>
        </p:nvSpPr>
        <p:spPr>
          <a:xfrm>
            <a:off x="4876920" y="259092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Enchanted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91" name="Text Box 18"/>
          <p:cNvSpPr/>
          <p:nvPr/>
        </p:nvSpPr>
        <p:spPr>
          <a:xfrm>
            <a:off x="4876920" y="358128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Enchanted"/>
              </a:rPr>
              <a:t>$6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92" name="Text Box 19"/>
          <p:cNvSpPr/>
          <p:nvPr/>
        </p:nvSpPr>
        <p:spPr>
          <a:xfrm>
            <a:off x="4876920" y="464832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Enchanted"/>
              </a:rPr>
              <a:t>$8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93" name="Text Box 20"/>
          <p:cNvSpPr/>
          <p:nvPr/>
        </p:nvSpPr>
        <p:spPr>
          <a:xfrm>
            <a:off x="4876920" y="563868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Enchanted"/>
              </a:rPr>
              <a:t>$10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94" name="Text Box 21"/>
          <p:cNvSpPr/>
          <p:nvPr/>
        </p:nvSpPr>
        <p:spPr>
          <a:xfrm>
            <a:off x="7010280" y="160020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Enchanted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95" name="Text Box 23"/>
          <p:cNvSpPr/>
          <p:nvPr/>
        </p:nvSpPr>
        <p:spPr>
          <a:xfrm>
            <a:off x="7010280" y="358128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Enchanted"/>
              </a:rPr>
              <a:t>$6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96" name="Text Box 24"/>
          <p:cNvSpPr/>
          <p:nvPr/>
        </p:nvSpPr>
        <p:spPr>
          <a:xfrm>
            <a:off x="7010280" y="464832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Enchanted"/>
              </a:rPr>
              <a:t>$8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97" name="AutoShape 27">
            <a:hlinkClick r:id="rId2"/>
          </p:cNvPr>
          <p:cNvSpPr/>
          <p:nvPr/>
        </p:nvSpPr>
        <p:spPr>
          <a:xfrm>
            <a:off x="8839080" y="6649920"/>
            <a:ext cx="304920" cy="208080"/>
          </a:xfrm>
          <a:custGeom>
            <a:avLst/>
            <a:gdLst>
              <a:gd name="textAreaLeft" fmla="*/ 13320 w 304920"/>
              <a:gd name="textAreaRight" fmla="*/ 291600 w 304920"/>
              <a:gd name="textAreaTop" fmla="*/ 13320 h 208080"/>
              <a:gd name="textAreaBottom" fmla="*/ 194760 h 208080"/>
            </a:gdLst>
            <a:ahLst/>
            <a:rect l="textAreaLeft" t="textAreaTop" r="textAreaRight" b="textAreaBottom"/>
            <a:pathLst>
              <a:path w="31635" h="21600">
                <a:moveTo>
                  <a:pt x="0" y="0"/>
                </a:moveTo>
                <a:lnTo>
                  <a:pt x="31635" y="0"/>
                </a:lnTo>
                <a:lnTo>
                  <a:pt x="31635" y="21600"/>
                </a:lnTo>
                <a:lnTo>
                  <a:pt x="0" y="21600"/>
                </a:lnTo>
                <a:close/>
              </a:path>
              <a:path fill="lightenLess" w="31635" h="21600">
                <a:moveTo>
                  <a:pt x="0" y="0"/>
                </a:moveTo>
                <a:lnTo>
                  <a:pt x="31635" y="0"/>
                </a:lnTo>
                <a:lnTo>
                  <a:pt x="30235" y="1400"/>
                </a:lnTo>
                <a:lnTo>
                  <a:pt x="1400" y="1400"/>
                </a:lnTo>
                <a:close/>
              </a:path>
              <a:path fill="darken" w="31635" h="21600">
                <a:moveTo>
                  <a:pt x="31635" y="0"/>
                </a:moveTo>
                <a:lnTo>
                  <a:pt x="31635" y="21600"/>
                </a:lnTo>
                <a:lnTo>
                  <a:pt x="30235" y="20200"/>
                </a:lnTo>
                <a:lnTo>
                  <a:pt x="30235" y="1400"/>
                </a:lnTo>
                <a:close/>
              </a:path>
              <a:path fill="darkenLess" w="31635" h="21600">
                <a:moveTo>
                  <a:pt x="31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235" y="20200"/>
                </a:lnTo>
                <a:close/>
              </a:path>
              <a:path fill="lighten" w="31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98" name="Text Box 29"/>
          <p:cNvSpPr/>
          <p:nvPr/>
        </p:nvSpPr>
        <p:spPr>
          <a:xfrm>
            <a:off x="7012080" y="259092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Enchanted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99" name="Text Box 30"/>
          <p:cNvSpPr/>
          <p:nvPr/>
        </p:nvSpPr>
        <p:spPr>
          <a:xfrm>
            <a:off x="7010280" y="563868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Enchanted"/>
              </a:rPr>
              <a:t>$10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  <p:transition>
    <p:checke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Enchanted"/>
              </a:rPr>
              <a:t>Ecosystem 2 $400-Answer</a:t>
            </a: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nchanted"/>
              </a:rPr>
              <a:t>Consumers are those who eat other things, like tiger, insect, and fish.</a:t>
            </a: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</p:spTree>
  </p:cSld>
  <p:transition>
    <p:checker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Enchanted"/>
              </a:rPr>
              <a:t>Ecosystem 2 $600-Answer</a:t>
            </a: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nchanted"/>
              </a:rPr>
              <a:t>Desert</a:t>
            </a: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</p:spTree>
  </p:cSld>
  <p:transition>
    <p:checke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Enchanted"/>
              </a:rPr>
              <a:t>Ecosystem 2 $800-Answer</a:t>
            </a: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nchanted"/>
              </a:rPr>
              <a:t>It is an area where different populations interact with each other.</a:t>
            </a: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</p:spTree>
  </p:cSld>
  <p:transition>
    <p:checke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Enchanted"/>
              </a:rPr>
              <a:t>Ecosystem 2 $1000-Answer</a:t>
            </a: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nchanted"/>
              </a:rPr>
              <a:t>Coral reefs, rain forests, oceans, rivers, deserts, and towns or cities. </a:t>
            </a: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</p:spTree>
  </p:cSld>
  <p:transition>
    <p:checker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Enchanted"/>
              </a:rPr>
              <a:t>Food chains and food webs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Enchanted"/>
              </a:rPr>
              <a:t> $200</a:t>
            </a: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nchanted"/>
              </a:rPr>
              <a:t>What is a food web?</a:t>
            </a: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</p:spTree>
  </p:cSld>
  <p:transition>
    <p:checker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Enchanted"/>
              </a:rPr>
              <a:t>Food chains and food webs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Enchanted"/>
              </a:rPr>
              <a:t> $400</a:t>
            </a: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nchanted"/>
              </a:rPr>
              <a:t>What does green plants do with the sunlight?</a:t>
            </a: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</p:spTree>
  </p:cSld>
  <p:transition>
    <p:checker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Enchanted"/>
              </a:rPr>
              <a:t>Food chains and food webs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Enchanted"/>
              </a:rPr>
              <a:t> $600</a:t>
            </a: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nchanted"/>
              </a:rPr>
              <a:t>How does green plant get their food?</a:t>
            </a: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</p:spTree>
  </p:cSld>
  <p:transition>
    <p:checker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Enchanted"/>
              </a:rPr>
              <a:t>Food chains and food webs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Enchanted"/>
              </a:rPr>
              <a:t> $800</a:t>
            </a: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nchanted"/>
              </a:rPr>
              <a:t>What do decomposers do in an ecosystem?</a:t>
            </a: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</p:spTree>
  </p:cSld>
  <p:transition>
    <p:checker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Enchanted"/>
              </a:rPr>
              <a:t>Food chains and food webs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Enchanted"/>
              </a:rPr>
              <a:t> $1000</a:t>
            </a: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nchanted"/>
              </a:rPr>
              <a:t>What are four main parts consisted of a food chain? </a:t>
            </a: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</p:spTree>
  </p:cSld>
  <p:transition>
    <p:checker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Enchanted"/>
              </a:rPr>
              <a:t>Food chains and food webs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Enchanted"/>
              </a:rPr>
              <a:t> $200-Answer</a:t>
            </a: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nchanted"/>
              </a:rPr>
              <a:t>Food webs have many overlapping food chains.</a:t>
            </a: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Enchanted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Enchanted"/>
              </a:rPr>
              <a:t>Scavengers $200</a:t>
            </a: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nchanted"/>
              </a:rPr>
              <a:t>What is an omnivore?</a:t>
            </a: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</p:spTree>
  </p:cSld>
  <p:transition>
    <p:checker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Enchanted"/>
              </a:rPr>
              <a:t>Food chains and food webs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Enchanted"/>
              </a:rPr>
              <a:t>$400-Answer</a:t>
            </a: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nchanted"/>
              </a:rPr>
              <a:t>Green plants change sunlight into a usable energy source.</a:t>
            </a: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</p:spTree>
  </p:cSld>
  <p:transition>
    <p:checker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Enchanted"/>
              </a:rPr>
              <a:t>Food chains and food webs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Enchanted"/>
              </a:rPr>
              <a:t>$600-Answer</a:t>
            </a: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nchanted"/>
              </a:rPr>
              <a:t>Green plants make their own food by using the Sun energy, carbon dioxide, and water.</a:t>
            </a: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</p:spTree>
  </p:cSld>
  <p:transition>
    <p:checker dir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Enchanted"/>
              </a:rPr>
              <a:t>Food chains and food webs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Enchanted"/>
              </a:rPr>
              <a:t> $800-Answer</a:t>
            </a: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nchanted"/>
              </a:rPr>
              <a:t>Decomposers break down the remains of dead plants and animals, and return nutrients to the soil and ecosystem.</a:t>
            </a: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</p:spTree>
  </p:cSld>
  <p:transition>
    <p:checker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Enchanted"/>
              </a:rPr>
              <a:t>Food chains and food webs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Enchanted"/>
              </a:rPr>
              <a:t>$1000-Answer</a:t>
            </a: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nchanted"/>
              </a:rPr>
              <a:t>The Sun, producers, consumers, and decomposers.</a:t>
            </a: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</p:spTree>
  </p:cSld>
  <p:transition>
    <p:checker dir="horz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Gyparody"/>
              </a:rPr>
              <a:t>Final Jeopardy</a:t>
            </a:r>
            <a:endParaRPr b="0" lang="en-US" sz="54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Enchanted"/>
              </a:rPr>
              <a:t>Category -Ecosystem</a:t>
            </a:r>
            <a:endParaRPr b="0" lang="en-US" sz="7200" spc="-1" strike="noStrike">
              <a:solidFill>
                <a:srgbClr val="ffffff"/>
              </a:solidFill>
              <a:latin typeface="Enchanted"/>
            </a:endParaRPr>
          </a:p>
        </p:txBody>
      </p:sp>
    </p:spTree>
  </p:cSld>
  <p:transition>
    <p:checker dir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Gyparody"/>
              </a:rPr>
              <a:t>Final Jeopardy</a:t>
            </a:r>
            <a:endParaRPr b="0" lang="en-US" sz="54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933120" y="6156360"/>
            <a:ext cx="751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Flareserif821 BT"/>
              </a:rPr>
              <a:t>You have 1 minute to consult…</a:t>
            </a:r>
            <a:endParaRPr b="0" lang="en-US" sz="40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nchanted"/>
              </a:rPr>
              <a:t>How can we help to protect the ecosystem?</a:t>
            </a: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</p:spTree>
  </p:cSld>
  <p:transition advTm="30000">
    <p:wheel spokes="1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intro-sho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Gyparody"/>
              </a:rPr>
              <a:t>Final Jeopardy</a:t>
            </a:r>
            <a:endParaRPr b="0" lang="en-US" sz="54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664920" y="6156360"/>
            <a:ext cx="804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Flareserif821 BT"/>
              </a:rPr>
              <a:t>You have 30 seconds to consult…</a:t>
            </a:r>
            <a:endParaRPr b="0" lang="en-US" sz="40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nchanted"/>
              </a:rPr>
              <a:t>How can we help to protect the ecosystem?</a:t>
            </a: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</p:spTree>
  </p:cSld>
  <p:transition advTm="15000">
    <p:wheel spokes="1"/>
    <p:sndAc>
      <p:stSnd>
        <p:snd r:embed="rId1" name="CHIMES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Gyparody"/>
              </a:rPr>
              <a:t>Final Jeopardy</a:t>
            </a:r>
            <a:endParaRPr b="0" lang="en-US" sz="54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664920" y="6156360"/>
            <a:ext cx="804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Flareserif821 BT"/>
              </a:rPr>
              <a:t>You have 15 seconds to consult…</a:t>
            </a:r>
            <a:endParaRPr b="0" lang="en-US" sz="40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nchanted"/>
              </a:rPr>
              <a:t>How can we help to protect the ecosystem?</a:t>
            </a: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</p:spTree>
  </p:cSld>
  <p:transition advTm="15000">
    <p:wheel spokes="1"/>
    <p:sndAc>
      <p:stSnd>
        <p:snd r:embed="rId1" name="CHIMES.WAV"/>
      </p:stSnd>
    </p:sndAc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Gyparody"/>
              </a:rPr>
              <a:t>Final Jeopardy</a:t>
            </a:r>
            <a:endParaRPr b="0" lang="en-US" sz="54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3327840" y="6156360"/>
            <a:ext cx="271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Flareserif821 BT"/>
              </a:rPr>
              <a:t>Time Is Up</a:t>
            </a:r>
            <a:endParaRPr b="0" lang="en-US" sz="40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nchanted"/>
              </a:rPr>
              <a:t>How can we help to protect the ecosystem?</a:t>
            </a: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</p:spTree>
  </p:cSld>
  <p:transition>
    <p:checker dir="horz"/>
    <p:sndAc>
      <p:stSnd>
        <p:snd r:embed="rId1" name="endround.wav"/>
      </p:stSnd>
    </p:sndAc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Gyparody"/>
              </a:rPr>
              <a:t>Final Jeopardy - Answer</a:t>
            </a:r>
            <a:endParaRPr b="0" lang="en-US" sz="48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571680" indent="-57168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nchanted"/>
              </a:rPr>
              <a:t>Recycle paper, water bottles, soda cans, </a:t>
            </a:r>
            <a:endParaRPr b="0" lang="en-US" sz="3200" spc="-1" strike="noStrike">
              <a:solidFill>
                <a:srgbClr val="ffffff"/>
              </a:solidFill>
              <a:latin typeface="Enchanted"/>
            </a:endParaRPr>
          </a:p>
          <a:p>
            <a:pPr marL="571680" indent="-57168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nchanted"/>
              </a:rPr>
              <a:t>walk or bike to school, </a:t>
            </a:r>
            <a:endParaRPr b="0" lang="en-US" sz="3200" spc="-1" strike="noStrike">
              <a:solidFill>
                <a:srgbClr val="ffffff"/>
              </a:solidFill>
              <a:latin typeface="Enchanted"/>
            </a:endParaRPr>
          </a:p>
          <a:p>
            <a:pPr marL="571680" indent="-57168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nchanted"/>
              </a:rPr>
              <a:t>turn off lights and TV when not in use, </a:t>
            </a:r>
            <a:endParaRPr b="0" lang="en-US" sz="3200" spc="-1" strike="noStrike">
              <a:solidFill>
                <a:srgbClr val="ffffff"/>
              </a:solidFill>
              <a:latin typeface="Enchanted"/>
            </a:endParaRPr>
          </a:p>
          <a:p>
            <a:pPr marL="571680" indent="-57168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Enchanted"/>
              </a:rPr>
              <a:t>pull weeds by hand instead of using chemicals</a:t>
            </a:r>
            <a:endParaRPr b="0" lang="en-US" sz="3200" spc="-1" strike="noStrike">
              <a:solidFill>
                <a:srgbClr val="ffffff"/>
              </a:solidFill>
              <a:latin typeface="Enchanted"/>
            </a:endParaRPr>
          </a:p>
          <a:p>
            <a:pPr marL="571680" indent="-5716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more…</a:t>
            </a:r>
            <a:endParaRPr b="0" lang="en-US" sz="3200" spc="-1" strike="noStrike">
              <a:solidFill>
                <a:srgbClr val="ffffff"/>
              </a:solidFill>
              <a:latin typeface="Enchanted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Enchanted"/>
              </a:rPr>
              <a:t>Scavengers $400</a:t>
            </a: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nchanted"/>
              </a:rPr>
              <a:t>What is a carnivore?</a:t>
            </a: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</p:spTree>
  </p:cSld>
  <p:transition>
    <p:checker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Gyparody"/>
              </a:rPr>
              <a:t>Jeopardy</a:t>
            </a:r>
            <a:endParaRPr b="0" lang="en-US" sz="54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Enchanted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Enchanted"/>
              </a:rPr>
              <a:t>Thank you for playing another fine round of America’s favorite question and answer game.</a:t>
            </a:r>
            <a:endParaRPr b="0" lang="en-US" sz="4400" spc="-1" strike="noStrike">
              <a:solidFill>
                <a:srgbClr val="ffffff"/>
              </a:solidFill>
              <a:latin typeface="Enchanted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Enchanted"/>
              </a:rPr>
              <a:t>Scavengers $600</a:t>
            </a: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nchanted"/>
              </a:rPr>
              <a:t>What is a predator?</a:t>
            </a: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Enchanted"/>
              </a:rPr>
              <a:t>Scavengers $800</a:t>
            </a: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nchanted"/>
              </a:rPr>
              <a:t>What is a herbivore?</a:t>
            </a: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Enchanted"/>
              </a:rPr>
              <a:t>Scavengers $1000</a:t>
            </a: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nchanted"/>
              </a:rPr>
              <a:t>What is a prey?</a:t>
            </a: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Enchanted"/>
              </a:rPr>
              <a:t>Scavengers $200-Answer</a:t>
            </a:r>
            <a:endParaRPr b="0" lang="en-US" sz="4000" spc="-1" strike="noStrike">
              <a:solidFill>
                <a:srgbClr val="ffff00"/>
              </a:solidFill>
              <a:latin typeface="Enchante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Enchanted"/>
              </a:rPr>
              <a:t>An omnivore is an organism that eats plants and animals.</a:t>
            </a: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Enchanted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5T00:03:29Z</dcterms:created>
  <dc:creator>David and Ady Brower</dc:creator>
  <dc:description/>
  <dc:language>en-US</dc:language>
  <cp:lastModifiedBy>udsd</cp:lastModifiedBy>
  <dcterms:modified xsi:type="dcterms:W3CDTF">2010-12-23T18:11:21Z</dcterms:modified>
  <cp:revision>145</cp:revision>
  <dc:subject/>
  <dc:title>Greek Jeopardy</dc:title>
</cp:coreProperties>
</file>